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C9C-8492-4D76-9807-0F3D5111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E10-64C9-4881-A058-1543750B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3B9-8D69-467A-A479-ED9BADDE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BFC-DFD5-49BB-A4DF-37AD5DAD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A6B-E0D8-454E-A605-839DF22D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AE8-62B3-4C59-9849-203D0F46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C8D-59C1-492B-B8A4-FEE93FA2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946-574F-45F8-AE5E-515C506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B95-0B9B-4177-9EF4-858FEDE7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E2F-63EE-4824-A511-05231BA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C5C-336E-4BFF-A3AC-335E4BAA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4BD-9E61-4858-A539-53EED951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60F-1159-4432-99E8-811179D5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382-0BFF-4A96-BF11-F6EE1C2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0C3-2C5C-430E-873A-8F68850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049-BCAA-449E-9EA5-C1D403CEF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Cisco Secure Firewall 3100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10-NGFW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20-ASA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20-ASA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20-NGFW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20-NGFW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30-ASA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30-ASA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30-NGFW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30-NGFW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40-ASA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40-ASA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40-NGFW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40-NGFW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K-PWR-AC-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430880" y="3560760"/>
            <a:ext cx="28224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K-XNM-4x40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438800" y="3567240"/>
            <a:ext cx="2664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K-XNM-8x10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438800" y="3567240"/>
            <a:ext cx="2664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K-XNM-8x25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438800" y="3567240"/>
            <a:ext cx="2664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738600" y="888840"/>
            <a:ext cx="1666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05-ASA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05-ASA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05-NGFW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05-NGFW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10-ASA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10-ASA-K9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FPR3110-NGFW-K9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911760" y="3556080"/>
            <a:ext cx="13204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23-12-19T19:39:07Z</dcterms:modified>
  <cp:revision>5</cp:revision>
  <dc:subject/>
  <dc:title>Slide 1</dc:title>
</cp:coreProperties>
</file>